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DE16-BF05-428E-A8F4-6BA90CE276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BBA7-0C03-4A9F-8A8B-A4E7F27F17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7974-6948-462A-A79F-BFB9ABD338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81F8-E98B-4709-9422-08166D6D99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4C93-19AC-478D-8FE3-1A561B265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FC8A-396D-4642-8D5D-7C1289D5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3BDA-702C-409A-919F-202210C6C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C4A7-752A-418D-BEF9-344D40E1C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F7D4-A10B-4EC8-9E38-940ADA3F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65AE-10A4-44DF-8238-9E62A11A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DA00-734E-45CE-9C9E-F5B12E5A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3F2D-95A6-4ACB-AEA4-680BC8AF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640F-629A-4937-B3FF-819A6506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BAD1-002F-44D0-B11F-EAF85693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39EB-8AAE-42D8-A324-0D513335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48BA-5D9C-46F1-ACBF-39AEDB62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362D-3662-4174-ABE3-1F2E9E27F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95280" y="90000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66"/>
                </a:solidFill>
                <a:latin typeface="Century"/>
              </a:rPr>
              <a:t>Использование 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66"/>
                </a:solidFill>
                <a:latin typeface="Century"/>
              </a:rPr>
              <a:t>новых информационно  - коммуникативных технологий в начальной школе.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2552760" y="6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2552760" y="6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51" name="Picture 9" descr="bd15309_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3"/>
          <p:cNvSpPr/>
          <p:nvPr/>
        </p:nvSpPr>
        <p:spPr>
          <a:xfrm>
            <a:off x="2714760" y="3714840"/>
            <a:ext cx="60721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 indent="-990720" algn="ctr">
              <a:spcBef>
                <a:spcPts val="156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"/>
              </a:rPr>
              <a:t>Автор: Симоненко Татьяна Петровна учитель высшей категории начальных классов. ОСШ № 3 г. Аксая</a:t>
            </a:r>
            <a:endParaRPr b="0" lang="en-US" sz="25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53" name="Picture 14" descr="komp"/>
          <p:cNvPicPr/>
          <p:nvPr/>
        </p:nvPicPr>
        <p:blipFill>
          <a:blip r:embed="rId2"/>
          <a:stretch/>
        </p:blipFill>
        <p:spPr>
          <a:xfrm>
            <a:off x="428760" y="4357800"/>
            <a:ext cx="242892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4429080" y="1214280"/>
            <a:ext cx="450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Хороший учитель истину не преподносит, а учит ее находить.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50920" y="3789360"/>
            <a:ext cx="8750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Симоненко Татьяна Петровна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учитель высшей категории. </a:t>
            </a:r>
            <a:endParaRPr b="0" lang="en-US" sz="25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Руководитель методического объединения учителей 2-х классов ОСШ №3 г. Аксая.</a:t>
            </a:r>
            <a:endParaRPr b="0" lang="en-US" sz="25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Педагогический стаж: 34 года.</a:t>
            </a:r>
            <a:endParaRPr b="0" lang="en-US" sz="25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425160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komp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4365720"/>
            <a:ext cx="2448000" cy="2216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bd15309_"/>
          <p:cNvPicPr/>
          <p:nvPr/>
        </p:nvPicPr>
        <p:blipFill>
          <a:blip r:embed="rId2"/>
          <a:stretch/>
        </p:blipFill>
        <p:spPr>
          <a:xfrm>
            <a:off x="250920" y="260280"/>
            <a:ext cx="8686800" cy="6098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285840" y="1714680"/>
            <a:ext cx="8534160" cy="46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XXI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век – эпоха информационного общества. Необходимость новых знаний, информационной грамотности, умения самостоятельно получать знания способствовала возникновению нового вида образования – инновационного, в котором информационные технологии призваны сыграть системообразующую, интегрирующую роль.</a:t>
            </a:r>
            <a:endParaRPr b="0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Очевидным сегодня является тот факт, что создание соответствующих компьютерных программ и педагогических методов их использования требует не просто переложения существующей методики на язык программирования, а разработку технологии обучения на основе концепции компьютеризации и информатизации всей системы образования, и начального образования, в частности.</a:t>
            </a:r>
            <a:endParaRPr b="0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д использованием «новых информационных технологий» в начальной школе, на мой взгляд, следует понимать не обучение адаптированным для начальной школы «основам информатики», а комплексное преобразование «среды обитания» учащегося, создание новых средств для его развития и активной творческой деятельности.</a:t>
            </a:r>
            <a:endParaRPr b="0" lang="en-US" sz="16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179280" y="907920"/>
            <a:ext cx="8785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спользование информационных технологий на уроках.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285840" y="1571760"/>
            <a:ext cx="8572320" cy="45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Компьютер в обучении младшего школьника должен стать обогащающим и преобразующим элементом развивающей предметной среды. Ведь именно в этом возрасте происходит интенсивное развитие умственных способностей ребенка, закладывается фундамент его дальнейшего интеллектуального развития. Такое понимание использования компьютера имеет гуманитарный развивающий характер.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Способов применения информационных технологий, способствующих развитию творчества, много: от компьютерного конструирования, моделирования и постановки виртуальных экспериментов до овладения новой терминологией. Педагогическая практика показывает реализуемость этого в методике начального обучения. Развитие педагогики использует возможности направленного влияния применения компьютерных и информационных технологий в обучении на мышление, память, внимание, воображение, самооценку учащихся, умение планировать свои действия, мотивационный компонент учебной деятельности.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Анализируя различные аспекты использования современных информационных технологий в школе, в том числе, и начальной, можно выделить следующие: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1)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Компьютер как объект изучения.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Это характерно, прежде всего, для курса «Основы информатики и вычислительной техник».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2) Компьютер как средство обучения, т.е. своеобразный «учитель». В таком качестве компьютер используется как в курсе ОИВТ так и при изучении других учебных дисциплин.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62" name="Picture 2" descr="bd15309_"/>
          <p:cNvPicPr/>
          <p:nvPr/>
        </p:nvPicPr>
        <p:blipFill>
          <a:blip r:embed="rId1"/>
          <a:stretch/>
        </p:blipFill>
        <p:spPr>
          <a:xfrm>
            <a:off x="214200" y="214200"/>
            <a:ext cx="8686800" cy="457200"/>
          </a:xfrm>
          <a:prstGeom prst="rect">
            <a:avLst/>
          </a:prstGeom>
          <a:ln w="0">
            <a:noFill/>
          </a:ln>
        </p:spPr>
      </p:pic>
      <p:sp>
        <p:nvSpPr>
          <p:cNvPr id="63" name="WordArt 5"/>
          <p:cNvSpPr txBox="1"/>
          <p:nvPr/>
        </p:nvSpPr>
        <p:spPr>
          <a:xfrm>
            <a:off x="179280" y="907920"/>
            <a:ext cx="8785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спользование информационных технологий на уроках.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357120" y="1500120"/>
            <a:ext cx="84297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нашей школе имеется мультимедийный кабинет, который мы начинаем осваивать.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развития у учащихся творческих компонентов мышления и формирования авторского мышления в процессе обучения я использую такой методический прием, как реализация творческих проектов. Детям нравится такой вид работы, так как они могут: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indent="3571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олнять композицию на вольную тему;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indent="3571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вать свой орнамент;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indent="3571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вать силуэт какого либо объекта окружающего мира по собственному замыслу, используя ограниченный набор графических элементов;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indent="35712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думывать свод задачу (на поиск закономерности, на раскрашивание) и показывать на компьютере как она решается.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indent="3571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65" name="Picture 2" descr="bd15309_"/>
          <p:cNvPicPr/>
          <p:nvPr/>
        </p:nvPicPr>
        <p:blipFill>
          <a:blip r:embed="rId1"/>
          <a:stretch/>
        </p:blipFill>
        <p:spPr>
          <a:xfrm>
            <a:off x="214200" y="214200"/>
            <a:ext cx="8686800" cy="457200"/>
          </a:xfrm>
          <a:prstGeom prst="rect">
            <a:avLst/>
          </a:prstGeom>
          <a:ln w="0">
            <a:noFill/>
          </a:ln>
        </p:spPr>
      </p:pic>
      <p:sp>
        <p:nvSpPr>
          <p:cNvPr id="66" name="WordArt 5"/>
          <p:cNvSpPr txBox="1"/>
          <p:nvPr/>
        </p:nvSpPr>
        <p:spPr>
          <a:xfrm>
            <a:off x="179280" y="907920"/>
            <a:ext cx="8785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спользование информационных технологий на уроках.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214200" y="1500120"/>
            <a:ext cx="84297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цесс реализации проект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стоит из нескольких этапов: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indent="3571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ребенок выбирает из предложенных учителем или придумывает сам тему будущего конструктора, делает в тетради эскизы рисунков по выбранной теме, или подбирает рисунки из книг и журналов.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indent="3571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дготовленные рисунки анализируются и разбиваются на фрагменты – выясняется, какие графические примитивы (детали) понадобятся для конструирования; учащийся делает эскизы графических примитивов в тетради.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indent="3571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здание композиций с использованием разработанных графических примитивов; презентация тематического конструктора.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обилизуя большие затраты умственной деятельности, графическое конструирование и моделирование ускоряет процессы развития пространственного мышления, воображения, развивает умственные способности, наблюдательность детей, чувство гармонии.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68" name="Picture 2" descr="bd15309_"/>
          <p:cNvPicPr/>
          <p:nvPr/>
        </p:nvPicPr>
        <p:blipFill>
          <a:blip r:embed="rId1"/>
          <a:stretch/>
        </p:blipFill>
        <p:spPr>
          <a:xfrm>
            <a:off x="214200" y="214200"/>
            <a:ext cx="8686800" cy="457200"/>
          </a:xfrm>
          <a:prstGeom prst="rect">
            <a:avLst/>
          </a:prstGeom>
          <a:ln w="0">
            <a:noFill/>
          </a:ln>
        </p:spPr>
      </p:pic>
      <p:sp>
        <p:nvSpPr>
          <p:cNvPr id="69" name="WordArt 5"/>
          <p:cNvSpPr txBox="1"/>
          <p:nvPr/>
        </p:nvSpPr>
        <p:spPr>
          <a:xfrm>
            <a:off x="179280" y="907920"/>
            <a:ext cx="8785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спользование информационных технологий на уроках.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285840" y="1571760"/>
            <a:ext cx="8429400" cy="43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Медиаурок имеет свои методические возможности и преимущества: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вышение эффективности образовательного процесса за счет одновременного изложения учителем теоретических сведений и показа демонстрационного материала с высокой степенью наглядности; появления возможности моделировать объекты и явления; автоматизации рутинных операций и др. 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возможность научить школьников применять компьютерную технику для решения учебных и трудовых задач, за счет практической обработки учебной информации на компьютере, 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организация индивидуальной работы школьников, развитие их познавательной самостоятельности и творчества, 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вышение мотивации к учению за счет привлекательности компьютера, которая возрастает за счет мультимедийных эффектов, 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развитие наглядно-образного мышления, моторных и вербальных коммуникативных навыков учащихся, 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формирование навыков работы с информацией (производить поиск, отбор, переработку, упорядочивание и выделение смысловых групп, выстраивание логических связей и др.), способствуя тем самым формированию информационной культуры школьников. 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71" name="Picture 2" descr="bd15309_"/>
          <p:cNvPicPr/>
          <p:nvPr/>
        </p:nvPicPr>
        <p:blipFill>
          <a:blip r:embed="rId1"/>
          <a:stretch/>
        </p:blipFill>
        <p:spPr>
          <a:xfrm>
            <a:off x="214200" y="214200"/>
            <a:ext cx="8686800" cy="457200"/>
          </a:xfrm>
          <a:prstGeom prst="rect">
            <a:avLst/>
          </a:prstGeom>
          <a:ln w="0">
            <a:noFill/>
          </a:ln>
        </p:spPr>
      </p:pic>
      <p:sp>
        <p:nvSpPr>
          <p:cNvPr id="72" name="WordArt 4"/>
          <p:cNvSpPr txBox="1"/>
          <p:nvPr/>
        </p:nvSpPr>
        <p:spPr>
          <a:xfrm>
            <a:off x="214200" y="785880"/>
            <a:ext cx="8382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то такое медиаурок?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3" name="Picture 6" descr="bd21553_"/>
          <p:cNvPicPr/>
          <p:nvPr/>
        </p:nvPicPr>
        <p:blipFill>
          <a:blip r:embed="rId2"/>
          <a:stretch/>
        </p:blipFill>
        <p:spPr>
          <a:xfrm>
            <a:off x="8143920" y="6215040"/>
            <a:ext cx="723960" cy="3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227640" y="4797360"/>
            <a:ext cx="2730600" cy="1816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komp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08000" y="4365720"/>
            <a:ext cx="2448000" cy="2216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bd15309_"/>
          <p:cNvPicPr/>
          <p:nvPr/>
        </p:nvPicPr>
        <p:blipFill>
          <a:blip r:embed="rId3"/>
          <a:stretch/>
        </p:blipFill>
        <p:spPr>
          <a:xfrm>
            <a:off x="228600" y="228600"/>
            <a:ext cx="8686800" cy="609480"/>
          </a:xfrm>
          <a:prstGeom prst="rect">
            <a:avLst/>
          </a:prstGeom>
          <a:ln w="0">
            <a:noFill/>
          </a:ln>
        </p:spPr>
      </p:pic>
      <p:sp>
        <p:nvSpPr>
          <p:cNvPr id="77" name="WordArt 4"/>
          <p:cNvSpPr txBox="1"/>
          <p:nvPr/>
        </p:nvSpPr>
        <p:spPr>
          <a:xfrm>
            <a:off x="533520" y="914400"/>
            <a:ext cx="8076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рганизация работы медиаурока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250920" y="1557360"/>
            <a:ext cx="853416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аурок может проводиться в компьютерном классе, или в классной комнате, оборудованной мультимедийным проектором. В любом случае следует помнить о санитарно-гигиенических нормах при непрерывной работе за компьютером. Для учащихся 1-х классов - 10 мин, 2-5-х классов - 15 мин, 6-7-х классов - 20 мин, 8-9-х классов - 25 мин, 10-11-х классов - 30 мин. </a:t>
            </a:r>
            <a:endParaRPr b="0" lang="en-US" sz="10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птимальной организации учебной деятельности школьников в компьютерном классе предлагается работу за компьютером сочетать с работой за дополнительными учебными столами, которые есть в каждом компьютерном классе. Это позволит выполнить требуемые санитарные нормы, организовать динамичную учебную деятельность школьников. Известно, что смена видов деятельности снижает утомляемость, активизирует работу.</a:t>
            </a:r>
            <a:endParaRPr b="0" lang="en-US" sz="10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спользовании учителем компьютерной техники только для наглядной демонстрации учебной информации урок проводят в классе с одним комплектом аппаратных средств.</a:t>
            </a:r>
            <a:endParaRPr b="0" lang="en-US" sz="10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учащихся в классе может быть организована: </a:t>
            </a:r>
            <a:endParaRPr b="0" lang="en-US" sz="1000" spc="-1" strike="noStrike">
              <a:solidFill>
                <a:srgbClr val="000000"/>
              </a:solidFill>
              <a:latin typeface="Century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фронтально - просмотр видео фрагментов, наблюдение за изменениями объектов, </a:t>
            </a:r>
            <a:endParaRPr b="0" lang="en-US" sz="1000" spc="-1" strike="noStrike">
              <a:solidFill>
                <a:srgbClr val="000000"/>
              </a:solidFill>
              <a:latin typeface="Century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индивидуально - выполнение практических работ, решение задач, </a:t>
            </a:r>
            <a:endParaRPr b="0" lang="en-US" sz="1000" spc="-1" strike="noStrike">
              <a:solidFill>
                <a:srgbClr val="000000"/>
              </a:solidFill>
              <a:latin typeface="Century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малыми группами - выполнение общего учебного проекта, постановка модельного эксперимента и др.</a:t>
            </a:r>
            <a:endParaRPr b="0" lang="en-US" sz="10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уктуре урока могут быть отражены все компоненты и звенья процесса обучения, а также обязательное чередование видов деятельности за компьютером и без него:</a:t>
            </a:r>
            <a:endParaRPr b="0" lang="en-US" sz="1000" spc="-1" strike="noStrike">
              <a:solidFill>
                <a:srgbClr val="000000"/>
              </a:solidFill>
              <a:latin typeface="Century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актуализация (повторение учебного материала, первичное усвоение материала) - за компьютером и (или) без компьютера; </a:t>
            </a:r>
            <a:endParaRPr b="0" lang="en-US" sz="1000" spc="-1" strike="noStrike">
              <a:solidFill>
                <a:srgbClr val="000000"/>
              </a:solidFill>
              <a:latin typeface="Century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формирование знаний, умений, навыков (осознание и осмысление блока учебной информации, закрепление учебного материала) - за компьютером и (или) без компьютера; </a:t>
            </a:r>
            <a:endParaRPr b="0" lang="en-US" sz="1000" spc="-1" strike="noStrike">
              <a:solidFill>
                <a:srgbClr val="000000"/>
              </a:solidFill>
              <a:latin typeface="Century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рименение (применение учебного материала на практике, проверка уровня усвоения материала) - за компьютером и (или) без компьютера.</a:t>
            </a:r>
            <a:endParaRPr b="0" lang="en-US" sz="10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мненно, что для этой структуры урока возможны варианты и модификации.</a:t>
            </a:r>
            <a:endParaRPr b="0" lang="en-US" sz="10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оптимальных организационных форм и методов остается за учителем.</a:t>
            </a:r>
            <a:endParaRPr b="0" lang="en-US" sz="10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79" name="Picture 6" descr="bd21553_"/>
          <p:cNvPicPr/>
          <p:nvPr/>
        </p:nvPicPr>
        <p:blipFill>
          <a:blip r:embed="rId4"/>
          <a:stretch/>
        </p:blipFill>
        <p:spPr>
          <a:xfrm>
            <a:off x="5148360" y="6308640"/>
            <a:ext cx="723960" cy="309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bd15309_"/>
          <p:cNvPicPr/>
          <p:nvPr/>
        </p:nvPicPr>
        <p:blipFill>
          <a:blip r:embed="rId5"/>
          <a:stretch/>
        </p:blipFill>
        <p:spPr>
          <a:xfrm>
            <a:off x="285840" y="214200"/>
            <a:ext cx="86868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500040" y="2071800"/>
            <a:ext cx="8143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Такой подход к организации учебного процесса с использованием современных информационных технологий в начальной школе дает возможность привлечь учащихся к творческой деятельности, что является необходимым условием формирования различных качеств творческого мышления.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82" name="Picture 2" descr="bd15309_"/>
          <p:cNvPicPr/>
          <p:nvPr/>
        </p:nvPicPr>
        <p:blipFill>
          <a:blip r:embed="rId1"/>
          <a:stretch/>
        </p:blipFill>
        <p:spPr>
          <a:xfrm>
            <a:off x="214200" y="214200"/>
            <a:ext cx="8686800" cy="457200"/>
          </a:xfrm>
          <a:prstGeom prst="rect">
            <a:avLst/>
          </a:prstGeom>
          <a:ln w="0">
            <a:noFill/>
          </a:ln>
        </p:spPr>
      </p:pic>
      <p:sp>
        <p:nvSpPr>
          <p:cNvPr id="83" name="WordArt 4"/>
          <p:cNvSpPr txBox="1"/>
          <p:nvPr/>
        </p:nvSpPr>
        <p:spPr>
          <a:xfrm>
            <a:off x="1000080" y="928800"/>
            <a:ext cx="678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ключение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15:43:30Z</dcterms:created>
  <dc:creator>курсы</dc:creator>
  <dc:description/>
  <dc:language>en-US</dc:language>
  <cp:lastModifiedBy>REM</cp:lastModifiedBy>
  <dcterms:modified xsi:type="dcterms:W3CDTF">2009-02-23T20:03:46Z</dcterms:modified>
  <cp:revision>51</cp:revision>
  <dc:subject/>
  <dc:title>Презентация PowerPoint</dc:title>
</cp:coreProperties>
</file>